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E8AE-07D1-4616-8081-EDECFC73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961-26A3-4C62-A3BB-6E3EB42F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70C9-0024-43FE-B4D6-7679C8BD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F4C-E53B-4A2C-B14A-A3CA035A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A549-EBF8-49B7-B340-A3EE3576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B244-EE8A-47A4-A9DE-01374605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7E0-6A07-4662-BC6B-3D5E0A63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478A-3AD1-4D59-B3FC-9C7AC46B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FD1-6FA4-44FB-8603-7B0CC84C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E902-17B1-4751-990D-8640CA37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8756-41DB-4D56-B2A0-2BB5C393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EAB9-3813-49DF-BFEE-70DDB114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083D-8E53-405D-ADB1-2C5D10485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solarsystem.nasa.gov/planets/profile.cfm?Object=Ura_Cordelia" TargetMode="External"/><Relationship Id="rId3" Type="http://schemas.openxmlformats.org/officeDocument/2006/relationships/hyperlink" Target="http://solarsystem.nasa.gov/planets/profile.cfm?Object=Ura_Ophelia" TargetMode="External"/><Relationship Id="rId4" Type="http://schemas.openxmlformats.org/officeDocument/2006/relationships/hyperlink" Target="http://solarsystem.nasa.gov/planets/profile.cfm?Object=Ura_Bianca" TargetMode="External"/><Relationship Id="rId5" Type="http://schemas.openxmlformats.org/officeDocument/2006/relationships/hyperlink" Target="http://solarsystem.nasa.gov/planets/profile.cfm?Object=Ura_Cressida" TargetMode="External"/><Relationship Id="rId6" Type="http://schemas.openxmlformats.org/officeDocument/2006/relationships/hyperlink" Target="http://solarsystem.nasa.gov/planets/profile.cfm?Object=Ura_Desdemona" TargetMode="External"/><Relationship Id="rId7" Type="http://schemas.openxmlformats.org/officeDocument/2006/relationships/hyperlink" Target="http://solarsystem.nasa.gov/planets/profile.cfm?Object=Ura_Juliet" TargetMode="External"/><Relationship Id="rId8" Type="http://schemas.openxmlformats.org/officeDocument/2006/relationships/hyperlink" Target="http://solarsystem.nasa.gov/planets/profile.cfm?Object=Ura_Portia" TargetMode="External"/><Relationship Id="rId9" Type="http://schemas.openxmlformats.org/officeDocument/2006/relationships/hyperlink" Target="http://solarsystem.nasa.gov/planets/profile.cfm?Object=Ura_Rosalind" TargetMode="External"/><Relationship Id="rId10" Type="http://schemas.openxmlformats.org/officeDocument/2006/relationships/hyperlink" Target="http://www.ifa.hawaii.edu/~sheppard/satellites/urasatdata.html" TargetMode="External"/><Relationship Id="rId11" Type="http://schemas.openxmlformats.org/officeDocument/2006/relationships/hyperlink" Target="http://solarsystem.nasa.gov/planets/profile.cfm?Object=Ura_Belinda" TargetMode="External"/><Relationship Id="rId12" Type="http://schemas.openxmlformats.org/officeDocument/2006/relationships/hyperlink" Target="http://solarsystem.nasa.gov/planets/profile.cfm?Object=Ura_Perdita" TargetMode="External"/><Relationship Id="rId13" Type="http://schemas.openxmlformats.org/officeDocument/2006/relationships/hyperlink" Target="http://solarsystem.nasa.gov/planets/profile.cfm?Object=Ura_Puck" TargetMode="External"/><Relationship Id="rId14" Type="http://schemas.openxmlformats.org/officeDocument/2006/relationships/hyperlink" Target="http://www.ifa.hawaii.edu/~sheppard/satellites/urasatdata.html" TargetMode="External"/><Relationship Id="rId15" Type="http://schemas.openxmlformats.org/officeDocument/2006/relationships/hyperlink" Target="http://solarsystem.nasa.gov/planets/profile.cfm?Object=Ura_Miranda" TargetMode="External"/><Relationship Id="rId16" Type="http://schemas.openxmlformats.org/officeDocument/2006/relationships/hyperlink" Target="http://solarsystem.nasa.gov/planets/profile.cfm?Object=Ura_Francisco" TargetMode="External"/><Relationship Id="rId17" Type="http://schemas.openxmlformats.org/officeDocument/2006/relationships/hyperlink" Target="http://solarsystem.nasa.gov/planets/profile.cfm?Object=Ura_Ariel" TargetMode="External"/><Relationship Id="rId18" Type="http://schemas.openxmlformats.org/officeDocument/2006/relationships/hyperlink" Target="http://solarsystem.nasa.gov/planets/profile.cfm?Object=Ura_Umbriel" TargetMode="External"/><Relationship Id="rId19" Type="http://schemas.openxmlformats.org/officeDocument/2006/relationships/hyperlink" Target="http://solarsystem.nasa.gov/planets/profile.cfm?Object=Ura_Titania" TargetMode="External"/><Relationship Id="rId20" Type="http://schemas.openxmlformats.org/officeDocument/2006/relationships/hyperlink" Target="http://solarsystem.nasa.gov/planets/profile.cfm?Object=Ura_Oberon" TargetMode="External"/><Relationship Id="rId21" Type="http://schemas.openxmlformats.org/officeDocument/2006/relationships/hyperlink" Target="http://solarsystem.nasa.gov/planets/profile.cfm?Object=Ura_Caliban" TargetMode="External"/><Relationship Id="rId22" Type="http://schemas.openxmlformats.org/officeDocument/2006/relationships/hyperlink" Target="http://solarsystem.nasa.gov/planets/profile.cfm?Object=Ura_Stephano" TargetMode="External"/><Relationship Id="rId23" Type="http://schemas.openxmlformats.org/officeDocument/2006/relationships/hyperlink" Target="http://nssdc.gsfc.nasa.gov/planetary/factsheet/uraniansatfact.html" TargetMode="External"/><Relationship Id="rId24" Type="http://schemas.openxmlformats.org/officeDocument/2006/relationships/hyperlink" Target="http://solarsystem.nasa.gov/planets/profile.cfm?Object=Ura_Sycorax" TargetMode="External"/><Relationship Id="rId25" Type="http://schemas.openxmlformats.org/officeDocument/2006/relationships/hyperlink" Target="http://solarsystem.nasa.gov/planets/profile.cfm?Object=Ura_Margaret" TargetMode="External"/><Relationship Id="rId26" Type="http://schemas.openxmlformats.org/officeDocument/2006/relationships/hyperlink" Target="http://solarsystem.nasa.gov/planets/profile.cfm?Object=Ura_Prospero" TargetMode="External"/><Relationship Id="rId27" Type="http://schemas.openxmlformats.org/officeDocument/2006/relationships/hyperlink" Target="http://solarsystem.nasa.gov/planets/profile.cfm?Object=Ura_Setebos" TargetMode="External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pds.jpl.nasa.gov/planets/choices/uranus1.htm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nchantedlearning.com/subjects/astronomy/glossary/indexh.shtml#hydrogen" TargetMode="External"/><Relationship Id="rId3" Type="http://schemas.openxmlformats.org/officeDocument/2006/relationships/hyperlink" Target="http://www.enchantedlearning.com/subjects/astronomy/glossary/indexh.shtml#helium" TargetMode="External"/><Relationship Id="rId4" Type="http://schemas.openxmlformats.org/officeDocument/2006/relationships/hyperlink" Target="http://www.enchantedlearning.com/subjects/astronomy/glossary/indexh.shtml#methane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jpeg"/><Relationship Id="rId3" Type="http://schemas.openxmlformats.org/officeDocument/2006/relationships/hyperlink" Target="http://pds-rings.seti.org/uranus/voyager/PIA00142.html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10552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r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0" y="54864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ta 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28600" y="14479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 picture of Uranus. This planet is very cold  so color is sky bl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http://pds.jpl.nasa.gov/planets/images/browse/uranus/uranus.jpg"/>
          <p:cNvPicPr/>
          <p:nvPr/>
        </p:nvPicPr>
        <p:blipFill>
          <a:blip r:embed="rId1"/>
          <a:stretch/>
        </p:blipFill>
        <p:spPr>
          <a:xfrm>
            <a:off x="4952880" y="9144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1. Cordelia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Uranus moon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2. Ophelia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3. Bianca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4. Cressida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5. Desdemona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6. Juliet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7. Portia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8. Rosalind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9. Mab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10. Belinda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11. Perdita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12. Puck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 13. Cupid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14. Miranda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15. Francisco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16. Ariel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17. Umbriel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18. Titania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19. Oberon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20. Caliban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21. Stephano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22. Trinculo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23. Sycorax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24. Margaret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25. Prospero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26. Setebos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7. Ferdinand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ttp://www.kidsastronomy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ttp://www.nineplanets.org/\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solarsystem.nasa.gov/index.cf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www.windows.ucar.edu/tour/link=/our_solar_system/solar_system.html&amp;edu=hi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um Herschel discovered Uranus on March 13, 1781 by searching sky with his telesc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after Roman god Uran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Uranus’s symb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5562720" y="4038480"/>
            <a:ext cx="1939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th planet from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from the sun in AU: 19.218  in km : 2,870,990,000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days to orbit around the sun:30684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one day (number of hours in one day): 17.24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www.jpl.nasa.gov/galileo/sepo/education/nav/ss2.gif"/>
          <p:cNvPicPr/>
          <p:nvPr/>
        </p:nvPicPr>
        <p:blipFill>
          <a:blip r:embed="rId2"/>
          <a:stretch/>
        </p:blipFill>
        <p:spPr>
          <a:xfrm>
            <a:off x="1752480" y="5257800"/>
            <a:ext cx="4934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et 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of Uranus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ume:7353313650000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vity: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ric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8.43 m/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atorial Circumference :Metric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60,592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n Density : Metric: 1.30 g/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a photo (with a caption) of your pla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Uranu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51055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ion and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ing this planet at 185 mph (300 kph. Uranus' icy atmosphere consist of 83%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ydro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15%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eli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2%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etha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http://www.enchantedlearning.com/ugifs/Uranusinside.GIF"/>
          <p:cNvPicPr/>
          <p:nvPr/>
        </p:nvPicPr>
        <p:blipFill>
          <a:blip r:embed="rId5"/>
          <a:stretch/>
        </p:blipFill>
        <p:spPr>
          <a:xfrm>
            <a:off x="2514600" y="3276720"/>
            <a:ext cx="411480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anus’s average temperatures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184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ways cold because it very far from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anus have 27 mo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 is  Ariel Belinda Caliban Cordelia,Cressida, Cupid Desdemona Ferdinandv Francisco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ib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7,200,000km far from Uranus. It was discovered by Gladman, Nicholson, Burns, &amp; Kavelaars on 199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>
              <a:alphaModFix amt="46000"/>
            </a:blip>
            <a:tile tx="0" ty="0" sx="100000" sy="100000" algn="ctr"/>
          </a:blipFill>
          <a:ln cap="sq"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ranus has 11rings called six, five, four, Alpha, Beta, Eta, Gamma, Delta, Lambda ,Epsilon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/2003 U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/2003 U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of the rings while in the shadow of Uran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Uranus Ring Syste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5120" y="4343400"/>
            <a:ext cx="12556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15:39:58Z</dcterms:created>
  <dc:creator>Sean Gardinier</dc:creator>
  <dc:description/>
  <dc:language>en-US</dc:language>
  <cp:lastModifiedBy>nauczyciel006n</cp:lastModifiedBy>
  <dcterms:modified xsi:type="dcterms:W3CDTF">2009-01-22T10:21:06Z</dcterms:modified>
  <cp:revision>35</cp:revision>
  <dc:subject/>
  <dc:title>Name of Planet</dc:title>
</cp:coreProperties>
</file>